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C10E-8265-4874-9862-7A0A2301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CF8-76E8-4B2D-973D-061127E6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9A41-9830-436B-8EF6-2550D134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7DC-E7BC-47AF-A941-D5D891CE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D18-D1A2-4C0E-80D5-46660203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23F-4468-479E-A261-B414BB55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53A2-7A1C-4AC0-AE37-A4C2FA5F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383-38E8-4A1D-B499-A3768BC3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A0FA-3BFF-4BAA-9090-DA7EE95D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C5CD-7A1A-494E-8AA5-46C30774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D86-7C08-4D92-B58D-13D41E36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AFC-5018-40A5-B314-10E24C40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8EA7-2B38-4200-8521-E96409CA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2DBF-1DC9-4C61-9214-D5A71DB5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0DA-727E-4B93-9DDC-5CD42B0B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FEB9-40EC-493E-853E-D3ACB8BA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7CB-FC03-4C1F-9C40-ED9CF297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861-B9F5-4E50-8CEC-BC76191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246-3183-46C7-B826-7B8F8B32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381-7824-49C1-AB42-967BE6BB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6B0-BFAF-4A97-860D-D92E10A2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EBD-9ADB-4D15-BE87-5C3986D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867-5E83-4A3D-A8A0-A4920AC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BF6-BB22-42F5-AF42-AA475AF5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E9F-0B9F-4334-AF78-1D987E04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256-DB60-42F7-95C8-059AE61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066-E73C-4D46-84A7-FD41949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61B-6B1D-4EBB-A7AD-FD57940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189000"/>
            <a:ext cx="7345080" cy="50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020600"/>
            <a:ext cx="6845400" cy="55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EFF-2B6D-428D-A1CA-986EF62B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189000"/>
            <a:ext cx="61128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189000"/>
            <a:ext cx="129528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4920" y="1700280"/>
            <a:ext cx="8435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alsts probācijas dienesta individuālais projekts Nr.LV0024</a:t>
            </a: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“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Latvijas probācijas un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lodzījumu vietu sistēmas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ersonāla kapacitātes celšana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”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ļa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1 Darbs ar dažādu mērķa grupu klientiem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1 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s ar personām ar garīgas veselības traucē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2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dzimumnoziedzniek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3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 personām ar atkarības problēm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4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nepilngadīgu likumpārkāpēj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5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klientu ar īpašām vajadzīb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6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etniskajām, reliģiskajām, seksuālajām un citām minoritātē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7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dezadaptēt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8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agresīv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2 Darba metode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Motivējošā intervē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Krīzes intervence – īsterapija vērsta uz atrisinājumu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3 Prasmju pilnveidošana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ārstāvības process ties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aika plāno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3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ašpalīdzība, stresa un konflikta vadīb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4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Grupu vadības pamat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8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 Probācijas programma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1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Emociju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2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Cieņpilnu attiecību veidošana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lu lietošanas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darbam ar dzimumnoziedzniekiem (brīvības atņemšanas ietādē)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Motivācija izmaiņām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6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EQUIP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7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nkārši par sarežģīto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8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Dzīves skola 2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907920"/>
          <a:ext cx="8240760" cy="5218200"/>
        </p:xfrm>
        <a:graphic>
          <a:graphicData uri="http://schemas.openxmlformats.org/drawingml/2006/table">
            <a:tbl>
              <a:tblPr/>
              <a:tblGrid>
                <a:gridCol w="1830240"/>
                <a:gridCol w="920880"/>
                <a:gridCol w="1830240"/>
                <a:gridCol w="1828800"/>
                <a:gridCol w="1830600"/>
              </a:tblGrid>
              <a:tr h="61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gūstamā kvalifik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ļu kombin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zīm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odul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Piespiedu un sabiedriskā darba izpildes organizator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 (PD+S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76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zlīguma veicē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(IZL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0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zvērtēšanas ziņojumu sagatav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 (IZ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8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Uzraudzības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 (UZR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21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Probācijas programmu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 (PP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vismaz vienu kursu no C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gūstama pēc uzraudzības īstenotāja kvalifikācijas iegūšan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4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visi jaunpieņemtie darbinieki ne ilgāk kā divu mēnešu laikā no darba uzsākšanas datum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darbinieki, kuri sekmīgi nokārtojuši A moduļa mācību priekšmetu pārbaudījumus un saskaņā ar veicamo funkciju, ne vēlāk kā divu mēnešu laikā pēc A moduļa mācību priekšmetu apgūšan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iekšmets </a:t>
            </a: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(„Probācijas programmu īstenošana”) apgūstams pēc B5 mācību priekšmeta („Uzraudzības īstenošana”) pārbaudījuma sekmīgas nokārtošanas un ne ātrāk kā pēc sešiem mēnešiem no darba uzsākšanas datuma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lis</a:t>
            </a:r>
            <a:r>
              <a:rPr b="1" lang="en-US" sz="24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mācību priekšmeti, kas nav noteikti kā obligātie iepriekšminētajā tabulā, apgūstami saskaņā ar tiešā vadītāja pieteikumu bez laika ierobežo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ldies par uzmanību!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probācijas dienesta mi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ūpēties par sabiedrības drošī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nākt noturīgas izmaiņas likumpārkāpēju dzīvēs, lai viņi vairs neizdara noziegumu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sargāt iespējamos upurus, ja paaugstinās nozieguma izdarīšanas risk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ā to panāk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odrošinot Valsts probācijas dienesta likumā noteikto funkciju </a:t>
            </a: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valitatīvu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izpildi - kvalitatīvi veicot  uzticēto dar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ozīmē kvalitatīva izpil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inieks strādā profesionāli!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pēj nodrošināt savā darbā gan teorētisko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(zināšanas), gan praktisko (prasmes) pieeju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fesionāls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inieks ir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kvalitatīvi sagatavots un apmācīts darbam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ņemot vērā: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tādes darba specifiku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žādas mērķa grupas (klientu kategorijas)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epieciešamās zināšanas un prasmes katras funkcijas ietvaros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n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spēj iegūtās zināšanas un prasmes pielietot </a:t>
            </a:r>
            <a:r>
              <a:rPr b="1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praksē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jot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pieredzi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mērķ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glītības procesa rezultātā sagatavot kvalificētu probācijas darba speciālistu Valsts probācijas dienesta funkciju īstenošanai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7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uzdevum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eidot izpratni par probācijas sistēmas izveidošanos un attīstību, probācijas lomu Latvijas kriminālsodu sistēmā un probācijas darbinieka vispārējo kompetenc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niegt zināšanas un attīstīt prasmes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t profesionālo kompetenci, paaugstinot kvalifikāciju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agatavot darbinieku teorētisko zināšanu pielietošanai praksē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ogramma tiek veidota pēc moduļu sistēmas, kas sastāv no: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ļ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Valsts probācijas dienesta darbība, misija, loma un vieta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2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Uz pierādījumiem balstīta pieeja darbā ar likumpārkāpēju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3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inieka tiesības, pienākumi un profesionālā ētik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4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Uz klientu orientēta saskarsm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5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a drošība darbā ar probācijas klient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tu sistēmu izmantošana darb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7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ietvedība 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moduļa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1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riminālsoda – piespiedu darbs un audzinoša rakstura piespiedu līdzekļa – sabiedriskais darbs – izpildes organizē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2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līguma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3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iska un vajadzību novērtēšana (pieaugušajiem)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4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vērtēšanas ziņojuma sagatav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5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zraudzības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bācijas programmu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rina.Purite</cp:lastModifiedBy>
  <dcterms:modified xsi:type="dcterms:W3CDTF">2010-12-13T12:59:02Z</dcterms:modified>
  <cp:revision>76</cp:revision>
  <dc:subject/>
  <dc:title>Slide 1</dc:title>
</cp:coreProperties>
</file>